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1B3E-7879-453A-A108-C391DEB5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1B84F-64D3-4BA1-AD6F-BAD87BE5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AAF7-84BA-486C-9007-F936E891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8222-CF76-4981-8C21-D457B7F8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16C3-AC10-4ED9-9B82-4AF48CB7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A913-2DF1-429C-87BB-C5777EC3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7FD9-9ECC-4541-BEF7-F2F6191C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85A1-8DE3-44A5-9883-78E674CF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D30B-5444-41A8-A48C-672D5B7D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79D1-0D8B-47AB-8C28-21EBE746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0E06-E96A-440E-A625-650FB0C3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EC17-FB2D-49E1-A2EC-071E8C57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E3DA-3F7E-4E52-8B61-43BECAE6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47E3-47A7-4635-A0B9-9DBFD01A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8B13-B326-47A9-A926-38BE068E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51F7-8C36-4596-A3B8-2D1E4F35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EB8C-1FDB-4F5B-A2DB-1053ABF8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FAEF3-EC53-4536-84AF-6F8D8212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3D073-A0FF-436D-888D-4A4FB476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12BF-0BE8-4E43-AF6F-3D8A8AC3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B41C9-7AAB-430F-BE6C-974853A2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5F90-4378-4D0D-BCBF-C93B0DEF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E9D19-B83C-4F25-81DE-6C5F3A4E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B94C6-F71C-4646-822E-7C10DFBC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92F4-EE34-495B-98C7-85196137C6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C280-798F-4FDE-A19E-76B5085680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Playfai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a Playfair Cip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87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characteristics of Playfair ciphertext that can be useful in identifying it as a Playfai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it is a substitution system, the rare consonants j, k, q, x, and z will appear in higher frequencies than plaintext and digraphs containing these consonants will appear more 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n even number of letters in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iphertext is broken up into digrams, doubled letters such as SS, EE, MM, . . . will not 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02D3E-1800-41DB-902C-5621DF0E44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4360" y="209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680" y="1346040"/>
            <a:ext cx="74563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help in the process of identifying a Playfair (or other polygraphic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5240" y="2200320"/>
            <a:ext cx="1193760" cy="465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67000" y="2838600"/>
            <a:ext cx="5742000" cy="3806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71560" y="3067200"/>
            <a:ext cx="1095480" cy="657000"/>
          </a:xfrm>
          <a:prstGeom prst="wedgeRoundRectCallout">
            <a:avLst>
              <a:gd name="adj1" fmla="val -42319"/>
              <a:gd name="adj2" fmla="val 67634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AD2C-E5D1-4208-8805-82FD5B6DFE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7T03:22:54Z</dcterms:modified>
  <cp:revision>65</cp:revision>
  <dc:subject/>
  <dc:title>CAP Cryptographic Analysis Program</dc:title>
</cp:coreProperties>
</file>